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FEA8B-4BE4-4390-89A3-85D5528FE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BBEBE-52E6-4B8C-B1C7-474A250C0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A0024-E767-4743-AEB0-1D1BA50A8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92EE-C5BE-4C22-B3AB-E51688263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742C-6A50-4FAD-A4F4-9843913D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4B8CB-8C26-4073-BEB0-36233D5D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CC624-9A3A-4248-9549-C04C97134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EA4C6-2174-4F4A-B43C-AA2A27CB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4F362-7D72-4C4F-8BEA-0F91479C8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A843-9F08-44E4-BA5E-D5EBFA280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A1C07-D072-484E-AC60-EC28CDE1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5436-2ADB-48CC-8880-8C3188CD7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F198-69B7-46B5-8016-162956D383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The Opening Ceremony</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By Gregor, Freddie and La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The Problem</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2012 the athletes will enter the Olympic stadium as part of the opening ceremony. At the first modern Olympic Games in 1896 in Athens there were only 250 participating athletes however at the 2008 Olympic Games in Beijing 11,028 people from 204 countries took part. It is hoped that at the 2012 Olympic Games in London 12,000 athletes will take part. The problem is that Seb Coe and David Beckham are concerned that there won’t be enough room in the stadium to fit all of the participa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333399"/>
                </a:solidFill>
                <a:uFillTx/>
                <a:latin typeface="Arial"/>
              </a:rPr>
              <a:t>Your Task</a:t>
            </a:r>
            <a:r>
              <a:rPr b="0" lang="en-GB" sz="2000" spc="-1" strike="noStrike">
                <a:solidFill>
                  <a:srgbClr val="3333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000000"/>
                </a:solidFill>
                <a:latin typeface="Arial"/>
              </a:rPr>
              <a:t>You must prepare a solution to give to your partner group. This feedback should include your reasoning and also the steps you follow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Answer </a:t>
            </a:r>
            <a:endParaRPr b="0" lang="en-US" sz="4400" spc="-1" strike="noStrike">
              <a:solidFill>
                <a:srgbClr val="000000"/>
              </a:solidFill>
              <a:latin typeface="Arial"/>
            </a:endParaRPr>
          </a:p>
        </p:txBody>
      </p:sp>
      <p:sp>
        <p:nvSpPr>
          <p:cNvPr id="46"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000" spc="-1" strike="noStrike" u="sng">
                <a:solidFill>
                  <a:srgbClr val="333399"/>
                </a:solidFill>
                <a:uFillTx/>
                <a:latin typeface="Arial"/>
              </a:rPr>
              <a:t>The Equation</a:t>
            </a:r>
            <a:r>
              <a:rPr b="0" lang="en-GB" sz="2000" spc="-1" strike="noStrike">
                <a:solidFill>
                  <a:srgbClr val="3333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 r squared = the radius of the semicircles at rounded edges is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 x 90=6300)+(pi 35 squared)=10148.45 – the square metres in the stadiu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e think that for 2 people in a square metre you can get about 20,000 overall in the stadium because 10148.45 x 2=20296.</a:t>
            </a:r>
            <a:endParaRPr b="0" lang="en-US" sz="2000" spc="-1" strike="noStrike">
              <a:solidFill>
                <a:srgbClr val="000000"/>
              </a:solidFill>
              <a:latin typeface="Arial"/>
            </a:endParaRPr>
          </a:p>
        </p:txBody>
      </p:sp>
      <p:grpSp>
        <p:nvGrpSpPr>
          <p:cNvPr id="47" name="Group 8"/>
          <p:cNvGrpSpPr/>
          <p:nvPr/>
        </p:nvGrpSpPr>
        <p:grpSpPr>
          <a:xfrm>
            <a:off x="1692000" y="4149360"/>
            <a:ext cx="5329440" cy="1368720"/>
            <a:chOff x="1692000" y="4149360"/>
            <a:chExt cx="5329440" cy="1368720"/>
          </a:xfrm>
        </p:grpSpPr>
        <p:grpSp>
          <p:nvGrpSpPr>
            <p:cNvPr id="48" name="Group 7"/>
            <p:cNvGrpSpPr/>
            <p:nvPr/>
          </p:nvGrpSpPr>
          <p:grpSpPr>
            <a:xfrm>
              <a:off x="2773440" y="4149720"/>
              <a:ext cx="4248000" cy="1368360"/>
              <a:chOff x="2773440" y="4149720"/>
              <a:chExt cx="4248000" cy="1368360"/>
            </a:xfrm>
          </p:grpSpPr>
          <p:sp>
            <p:nvSpPr>
              <p:cNvPr id="49" name="Rectangle 4"/>
              <p:cNvSpPr/>
              <p:nvPr/>
            </p:nvSpPr>
            <p:spPr>
              <a:xfrm>
                <a:off x="2773440" y="4149720"/>
                <a:ext cx="33116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5"/>
              <p:cNvSpPr/>
              <p:nvPr/>
            </p:nvSpPr>
            <p:spPr>
              <a:xfrm>
                <a:off x="6085080" y="4149720"/>
                <a:ext cx="936360" cy="136836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AutoShape 6"/>
            <p:cNvSpPr/>
            <p:nvPr/>
          </p:nvSpPr>
          <p:spPr>
            <a:xfrm rot="10800000">
              <a:off x="1692000" y="4149360"/>
              <a:ext cx="1081080" cy="136836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Line 9"/>
          <p:cNvSpPr/>
          <p:nvPr/>
        </p:nvSpPr>
        <p:spPr>
          <a:xfrm flipV="1">
            <a:off x="2700360" y="429228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0"/>
          <p:cNvSpPr/>
          <p:nvPr/>
        </p:nvSpPr>
        <p:spPr>
          <a:xfrm>
            <a:off x="2916360" y="4005360"/>
            <a:ext cx="324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11"/>
          <p:cNvSpPr/>
          <p:nvPr/>
        </p:nvSpPr>
        <p:spPr>
          <a:xfrm>
            <a:off x="2268360" y="47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m</a:t>
            </a:r>
            <a:endParaRPr b="0" lang="en-US" sz="1200" spc="-1" strike="noStrike">
              <a:solidFill>
                <a:srgbClr val="000000"/>
              </a:solidFill>
              <a:latin typeface="Arial"/>
            </a:endParaRPr>
          </a:p>
        </p:txBody>
      </p:sp>
      <p:sp>
        <p:nvSpPr>
          <p:cNvPr id="55" name="Text Box 12"/>
          <p:cNvSpPr/>
          <p:nvPr/>
        </p:nvSpPr>
        <p:spPr>
          <a:xfrm>
            <a:off x="4356000" y="37162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The Solution</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f not enough, we think that 4 people could fit in a square meter and overall 40592 athletes could fit. We chose 2 people because the athletes will vary in size and shape due to their different sports. So that there is no over crowding our group think that 2 people per square meter would be be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9:35:12Z</dcterms:created>
  <dc:creator>BarkerL</dc:creator>
  <dc:description/>
  <dc:language>en-US</dc:language>
  <cp:lastModifiedBy> </cp:lastModifiedBy>
  <dcterms:modified xsi:type="dcterms:W3CDTF">2010-06-12T11:55:02Z</dcterms:modified>
  <cp:revision>3</cp:revision>
  <dc:subject/>
  <dc:title>The Opening Ceremony </dc:title>
</cp:coreProperties>
</file>